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E81-4AB8-441D-B109-50024750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19B-9C62-462C-B15E-B609E77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810-58B5-439F-B9DB-DA86448A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24F-A6F3-40F0-9A1B-904514DB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903B0-3E72-4BA2-A0FA-F54CD2B2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813EF-D11D-4D4B-BB61-FDC4E6D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566E4-3AB4-4FC0-8FF0-ECE259C9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42D4C-2ED5-49C1-B843-BD9A7744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D786-219A-4FE4-B8F3-1608DA89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0D30E-8B8E-4E72-BC9C-D2825720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1099D-EB51-42B4-BE6C-6BBA185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8C4F-9E46-4259-9936-4E6E4328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4FABE-C926-4722-81D1-650175CD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31967-DB60-43CA-9702-72124CA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95016-312C-4185-BF2C-D948E39F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533DD-A41D-43DE-AAC9-7865B4F2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FC382-BFE6-49D2-AD73-CA6C61EF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74F7-38A6-4941-BFD4-4ADF20F6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132-C78A-447D-A483-B193CC9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9FB-117A-463E-AD5B-8C19A0CD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3B13-19B9-4199-A82C-F248376C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E19-ABE9-42D4-867D-B2D9EAE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3B6-4E84-416F-81BD-5451E30E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889-BB77-4D82-AEC4-C699862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C831-6D3A-4C4C-80CB-37D47D8615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3DA0-627F-4280-ADF6-4EBE5C3D5F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irst five president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Eric Tob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was the first president of the U.S. He establish the Washington monument. Made the bill of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42:32Z</dcterms:created>
  <dc:creator>eric.tobin</dc:creator>
  <dc:description/>
  <dc:language>en-US</dc:language>
  <cp:lastModifiedBy>eric.tobin</cp:lastModifiedBy>
  <dcterms:modified xsi:type="dcterms:W3CDTF">2008-04-25T14:57:58Z</dcterms:modified>
  <cp:revision>4</cp:revision>
  <dc:subject/>
  <dc:title>Problems with the articles of confederation </dc:title>
</cp:coreProperties>
</file>